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86297"/>
        <c:axId val="88889754"/>
      </c:barChart>
      <c:catAx>
        <c:axId val="43586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89754"/>
        <c:crosses val="autoZero"/>
        <c:auto val="1"/>
        <c:lblAlgn val="ctr"/>
        <c:lblOffset val="100"/>
        <c:noMultiLvlLbl val="0"/>
      </c:catAx>
      <c:valAx>
        <c:axId val="88889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86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ADF-2B47-48C2-9FFA-D62894B5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38C-AE01-449A-AF89-D1F30678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EA5-A388-4711-9B7A-7C88BB57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681-9239-4524-BC08-4004C0B4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2F7-D91F-46FE-8079-84FC289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11F-ABEC-4528-8187-E8C5365A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6A5-994B-41AE-9FAB-798EB1B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D81-BEAF-4C0C-9380-A077F4A4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31E-CF60-4CC5-898A-2E256403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F73-9271-46FE-A0B3-287DEA7E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BA6-8A1D-4E4A-A53F-0761BFD9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C15-0B17-4B32-9427-A88F42DC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5B16F-6F23-45C6-A5D4-CEB6DB6498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