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02813"/>
        <c:axId val="2130242"/>
      </c:barChart>
      <c:catAx>
        <c:axId val="17502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0242"/>
        <c:crosses val="autoZero"/>
        <c:auto val="1"/>
        <c:lblAlgn val="ctr"/>
        <c:lblOffset val="100"/>
        <c:noMultiLvlLbl val="0"/>
      </c:catAx>
      <c:valAx>
        <c:axId val="2130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02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A52-EC00-45CB-8D79-DFA4EB22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9F9-413D-4CA3-BC53-668D9B12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974-C98C-4A4B-A773-CB1C32D5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F11-3A7E-4D76-B68E-BA6E14F5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46B-82F2-4133-B2AD-BCC0EE71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36C-6F80-4568-90EE-90B2E67F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F68-C7A4-45F2-BC50-15BAC371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95D-9782-4274-9D9B-FBF626DC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61F-560E-4F22-8C80-5F164246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8EE-9147-44D0-88E6-799CDFF8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EB1-8871-4CB3-B4AF-17039F54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6A5-617F-451B-B0BF-EC26CAA8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BEFA6-B96D-4E06-841E-C77676178A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