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10398"/>
        <c:axId val="74148664"/>
      </c:barChart>
      <c:catAx>
        <c:axId val="53610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8664"/>
        <c:crosses val="autoZero"/>
        <c:auto val="1"/>
        <c:lblAlgn val="ctr"/>
        <c:lblOffset val="100"/>
        <c:noMultiLvlLbl val="0"/>
      </c:catAx>
      <c:valAx>
        <c:axId val="74148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10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CAB-37B3-4BAD-B394-8AC63259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12D-8D48-4A4C-B4E6-DA7F8C12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6F8-A9ED-49F9-9697-E7082369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DE0-01C4-4DDE-800A-A1A05892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BB2-F546-4A9B-A07A-C306713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514-0429-4E98-A73B-60F79AB2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F01-209A-4E54-80BF-6662F48B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B2C-E882-4CAD-AA6A-27DABCAA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E85-C910-4278-8745-E6265A6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52B-FB6B-4A4C-9853-7B2023A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3FB-038E-4351-A4ED-4C752DA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95D-E25F-478D-8B27-9621CBE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F5820-3E9F-4724-A2DA-31966B992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