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59678"/>
        <c:axId val="81979843"/>
      </c:barChart>
      <c:catAx>
        <c:axId val="99459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79843"/>
        <c:crosses val="autoZero"/>
        <c:auto val="1"/>
        <c:lblAlgn val="ctr"/>
        <c:lblOffset val="100"/>
        <c:noMultiLvlLbl val="0"/>
      </c:catAx>
      <c:valAx>
        <c:axId val="81979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59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934-AD0A-469D-B724-D743BA02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97C-0DA0-40A2-B6AB-9FB106D9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4EA-0140-43D5-94DF-BAFF8A64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A8E-D9DC-408B-8B7C-05E61614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D2A-435C-492B-BBE3-9D4D804D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ADC-2045-4AE1-B543-5AEEFD74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6C0-896E-412E-8A92-81388625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A8D-0645-4218-ACDD-38FC5687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EDD-5340-4C90-8635-4F230B70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B2C-07B5-4DD9-86A8-8A70810A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8B4-9BC5-43EE-9FA0-6E52F9C3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798-CBEA-481D-BE87-F5B654B7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C33D5-C7AF-4D86-B40E-5F2A7BA168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