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945835"/>
        <c:axId val="39332793"/>
      </c:barChart>
      <c:catAx>
        <c:axId val="809458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332793"/>
        <c:crosses val="autoZero"/>
        <c:auto val="1"/>
        <c:lblAlgn val="ctr"/>
        <c:lblOffset val="100"/>
        <c:noMultiLvlLbl val="0"/>
      </c:catAx>
      <c:valAx>
        <c:axId val="393327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9458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0815-D028-4546-9107-C27F3F8FC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B2BC-AE62-43E1-A51A-4F06BCF7F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BC1A-A07A-422B-9654-4DD73EFA2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E183-C7B1-4093-A58A-58D17A297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EE71-CEE5-4CAE-86E1-C9251DC72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FE49-5681-44C5-BA03-29907A61F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DF88-E2F8-45D8-868F-68B5DAE34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984A-92E2-436E-BAC3-D3D11C331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6D5C-7D19-492F-B230-9382982AA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3D56-9082-43FA-8F18-F1E654FA4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3082-A326-408D-B83D-A7F8764C5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36FF-E262-4C80-83E4-5DE15B70E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F27DBD-D687-47F2-96A3-9EF9CA13E8B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