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84077"/>
        <c:axId val="90393601"/>
      </c:barChart>
      <c:catAx>
        <c:axId val="93784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93601"/>
        <c:crosses val="autoZero"/>
        <c:auto val="1"/>
        <c:lblAlgn val="ctr"/>
        <c:lblOffset val="100"/>
        <c:noMultiLvlLbl val="0"/>
      </c:catAx>
      <c:valAx>
        <c:axId val="90393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84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953-31B9-4098-8560-EC1756FA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04F-E792-4E6C-8B4A-1F9810C0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448-A91E-4DE7-ACD3-16D75C3F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372-57E0-45DA-BF17-99D9BE36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470-42C9-47C0-9E99-2E8A8208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0D2-E6A7-4CF8-9556-C911119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610-48BA-4E51-B3B9-7ECAFC8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75F-5F07-462F-BE6E-6ABFAB1C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70A-8841-48DC-8FB8-0D394A4A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105-085B-4E9A-BD59-E4DEE8E4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947-133E-45DC-866D-CB0F0A5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BE9-4300-480A-B8DB-B1BACEF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1BA97-1454-4CF8-A234-86B19F2E55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