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34089"/>
        <c:axId val="30764319"/>
      </c:barChart>
      <c:catAx>
        <c:axId val="57334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64319"/>
        <c:crosses val="autoZero"/>
        <c:auto val="1"/>
        <c:lblAlgn val="ctr"/>
        <c:lblOffset val="100"/>
        <c:noMultiLvlLbl val="0"/>
      </c:catAx>
      <c:valAx>
        <c:axId val="30764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34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C57-672D-4AB2-87BF-742D79E2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B8B-CA96-4723-BD87-B6D3305E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C11-B21A-459B-8097-CBEAAD35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8A4-245D-472B-93F3-0E3EBB47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4CB-A3EC-4D22-BDE6-ACF4F428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3E3-F5C8-4417-BA8F-8380914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75E-ED69-4E1A-AE91-E8217D37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61E-CD31-4887-B3BA-01BD0909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B97-4806-426B-89FF-694E0623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E22-97E9-4A8A-ADEC-9FC1D8E6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FEF-8AD9-432E-B9EE-BAE1379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40B-A908-4F50-954D-0D90B8A1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E86B3-B0DA-4B67-8BE4-7B3AB82FE1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