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48209"/>
        <c:axId val="65304812"/>
      </c:barChart>
      <c:catAx>
        <c:axId val="95248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04812"/>
        <c:crosses val="autoZero"/>
        <c:auto val="1"/>
        <c:lblAlgn val="ctr"/>
        <c:lblOffset val="100"/>
        <c:noMultiLvlLbl val="0"/>
      </c:catAx>
      <c:valAx>
        <c:axId val="65304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48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909-8243-4103-886B-9B255CD7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244-31DF-4C04-9324-E4CF6F12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52F-5B1D-4B0C-A2D4-97C83935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52D-FD44-4754-A7E5-230A00A4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F2A-887B-4FAC-97E9-17DFE844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726-3C48-4D63-914E-956AD223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CA3-EAF6-4814-AA3B-2AD58C70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4B1-4523-4425-B9AE-F927E4DC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1B1-E6C3-4C3D-BBF3-132ACEF9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AB8-5505-44CE-B742-7114E252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C21-64A3-40FA-9050-0E075081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41D-D811-4EEF-BB16-92BDABCE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7B40E-3600-4F9A-9FCF-9F64CF7BFD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