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11971"/>
        <c:axId val="69268013"/>
      </c:barChart>
      <c:catAx>
        <c:axId val="22811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68013"/>
        <c:crosses val="autoZero"/>
        <c:auto val="1"/>
        <c:lblAlgn val="ctr"/>
        <c:lblOffset val="100"/>
        <c:noMultiLvlLbl val="0"/>
      </c:catAx>
      <c:valAx>
        <c:axId val="69268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11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32A-AD11-45E1-8762-B1B41080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AAF-4EDE-4155-9B62-29A8D34B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E18-FB30-4F45-B159-0CF0F7C3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A94-1000-419F-8B0D-C3A25950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29D-B7A0-4893-A009-9A8ECEFD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AC8-1C8B-4517-8522-2251705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81D-9FAD-43E2-82CD-CDA45994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3AB-D582-4BDF-A93D-0F3E3B1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21A-3449-4263-BBE7-5F31FDB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AB3-5ACB-4BFF-9BC1-3280B777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DEE-4E38-48D0-9AEE-0D1A8CE8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17C-2025-4682-92DE-21C5548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30B79-0FF0-4BA2-83DA-2E606E964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