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72825"/>
        <c:axId val="37701188"/>
      </c:barChart>
      <c:catAx>
        <c:axId val="9177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01188"/>
        <c:crosses val="autoZero"/>
        <c:auto val="1"/>
        <c:lblAlgn val="ctr"/>
        <c:lblOffset val="100"/>
        <c:noMultiLvlLbl val="0"/>
      </c:catAx>
      <c:valAx>
        <c:axId val="37701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7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68B-71E1-44F0-B0AD-41402081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7F1-EBD6-40E8-9310-23171A37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BD7-38E4-4669-BC91-8FAA28CB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315-B964-4056-B755-69829CE0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F2F-225E-41E6-B6E9-AE249E91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73A-CB1C-4F5A-B183-9B66BE1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6A5-EDFF-4F0A-B8F6-3A3C14F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FA3-6247-4707-962E-CB19B1A6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CBA-6514-45DC-A2C4-FA7270CC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C99-70A0-4D46-A39B-3C3AB87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A18-71D5-4F4F-8473-073E700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B50-F850-459B-B2E1-06FBA3D4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17BD7-E8FA-4255-9A70-277E6BDB8E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