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56553"/>
        <c:axId val="1297947"/>
      </c:barChart>
      <c:catAx>
        <c:axId val="61756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7947"/>
        <c:crosses val="autoZero"/>
        <c:auto val="1"/>
        <c:lblAlgn val="ctr"/>
        <c:lblOffset val="100"/>
        <c:noMultiLvlLbl val="0"/>
      </c:catAx>
      <c:valAx>
        <c:axId val="1297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56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8BD-2660-4E3F-9BF4-19E9335F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455-6919-44EA-98E8-02299C93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A2E-616D-46FC-8EFC-FF134F2B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213-18C3-47F2-B8F9-7E8597F5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09A-4F10-4E18-936D-7311C542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0BE-39EF-4E07-B2CD-4C2159D0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16C-C28E-4378-BA74-54851CF6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560-9EE6-41CF-B748-4F4373CB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541-F41D-4834-AADD-86980CAE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85E-ACCD-421F-8476-BEE63EC4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FB6-D122-4D6A-B43C-F8896B3F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F1C-9676-4693-B9D8-E3ED3DE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A513C-DF93-43A9-9046-302B7D938F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