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56579"/>
        <c:axId val="15293324"/>
      </c:barChart>
      <c:catAx>
        <c:axId val="33156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93324"/>
        <c:crosses val="autoZero"/>
        <c:auto val="1"/>
        <c:lblAlgn val="ctr"/>
        <c:lblOffset val="100"/>
        <c:noMultiLvlLbl val="0"/>
      </c:catAx>
      <c:valAx>
        <c:axId val="15293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56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D37-7BC5-4C35-8128-54ED2657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BF1-859C-447F-A312-780CEE8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071-367A-4832-BBE3-B507FC92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82E-2A05-40C7-A97A-2A9A4030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9A9-6A12-4132-BD9E-7DF8937B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C88-9307-4D59-9729-54BA804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36B-6044-4D42-BF2A-A06884E3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644-7F10-4A0E-9E0B-EF74D70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25F-FADB-4610-B571-ABFF379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795-2D11-43F1-A822-9E1E265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2F3-BD37-462E-B56A-19D9FCC3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E1D-ED6E-46A4-908A-302CCA0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767C3-F12E-4E8B-86B5-B10FB2276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