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6759608"/>
        <c:axId val="68105644"/>
      </c:barChart>
      <c:catAx>
        <c:axId val="7675960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105644"/>
        <c:crosses val="autoZero"/>
        <c:auto val="1"/>
        <c:lblAlgn val="ctr"/>
        <c:lblOffset val="100"/>
        <c:noMultiLvlLbl val="0"/>
      </c:catAx>
      <c:valAx>
        <c:axId val="6810564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75960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44E11-147D-49DC-B1B5-4868BC8C5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35340-EB64-4494-99E5-11FCB72F1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86B47-4EA8-4B5A-AFC4-9066065E9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59D0B-23D9-4459-A152-D4071747F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D6620-9246-42F7-B04E-DC356F612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8895E-5A97-496E-A826-BD3E6006F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B817C-1A02-4B0E-8F4F-9AD38BD56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1D24F-0223-4391-BBB4-0715F88C0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10820-F04F-448B-A597-90A809D2E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4CA2A-D033-4DAA-9741-C7BF4A5BD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EA669-3A6C-47F0-8ED9-5F186E0E4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5EC92-E535-4FF4-BB2B-3B7E5AFD4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8BE61C-8FBF-451C-9742-9E01EC2D88B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