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53752"/>
        <c:axId val="89809093"/>
      </c:barChart>
      <c:catAx>
        <c:axId val="883537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09093"/>
        <c:crosses val="autoZero"/>
        <c:auto val="1"/>
        <c:lblAlgn val="ctr"/>
        <c:lblOffset val="100"/>
        <c:noMultiLvlLbl val="0"/>
      </c:catAx>
      <c:valAx>
        <c:axId val="898090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537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133F-62A5-4CAE-8547-C5F45E98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C499-F4E8-4687-B625-60B55371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90D-2E0C-4171-8B49-2EB9FE30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FB7D-75EA-429E-912F-DAF7FF90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64AA-21FE-48E2-9795-3D3B1385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6972-0A0A-455D-8AC2-1CEE1976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888-79C3-4D7D-B828-B9309630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EFCF-5409-4538-98D1-59328B32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114B-46D2-4D59-8407-C3C55658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119E-14A2-4639-AE8B-CCE13154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8DA0-5618-4A08-9F2C-AE9F51E8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2E6-BB8F-432E-AD8D-0CD5526B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63808-CA5B-4D78-AB40-7495A227CB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