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86928"/>
        <c:axId val="86561122"/>
      </c:barChart>
      <c:catAx>
        <c:axId val="35186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61122"/>
        <c:crosses val="autoZero"/>
        <c:auto val="1"/>
        <c:lblAlgn val="ctr"/>
        <c:lblOffset val="100"/>
        <c:noMultiLvlLbl val="0"/>
      </c:catAx>
      <c:valAx>
        <c:axId val="86561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6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879-7DF8-4744-85EA-46B3334D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487-D74C-4DEF-A977-BF2F43E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5DE-D94A-4FD1-AA14-54F35CC2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041-80A2-43ED-B164-67448F43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5E3-4E19-43FB-B40C-9BBCA21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477-81BC-41B8-AE4A-E5D59D9E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D25-278C-49FB-8021-A7BE6B7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EC6-7147-4358-94DC-4EF4DD8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BD4-A664-45BB-8E84-473B4BA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6E5-19BC-4D16-8A83-05C2C3E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5C9-73E4-4DDE-86B2-ED521E4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724-A79C-48C4-8BF3-AAB5EFE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B252-3C97-401B-8130-2120D8AA1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