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44965"/>
        <c:axId val="57885381"/>
      </c:barChart>
      <c:catAx>
        <c:axId val="96944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85381"/>
        <c:crosses val="autoZero"/>
        <c:auto val="1"/>
        <c:lblAlgn val="ctr"/>
        <c:lblOffset val="100"/>
        <c:noMultiLvlLbl val="0"/>
      </c:catAx>
      <c:valAx>
        <c:axId val="57885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4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592-0997-4969-A570-AB16639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50D-9C4C-4D2C-9E83-6A9353DA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6CB-BA5C-40E1-B235-D27CEED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114-464E-405B-A0EC-7F4625ED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F3C-51F4-40FD-BCA2-27D771D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B41-810E-44A0-9BD8-3AE0893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D78-DAAA-4EDD-85E5-6F260DB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692-0EAA-4814-A23C-5E4325E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3B0-ED71-4711-B071-A6803E9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B14-4D15-467E-AA38-BA51F41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F4F-2612-4594-84D7-27A2B89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DB1-845A-4728-90BD-F3C9A55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36064-CA47-4515-949D-5EC530EF4E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