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501593"/>
        <c:axId val="16648335"/>
      </c:barChart>
      <c:catAx>
        <c:axId val="195015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648335"/>
        <c:crosses val="autoZero"/>
        <c:auto val="1"/>
        <c:lblAlgn val="ctr"/>
        <c:lblOffset val="100"/>
        <c:noMultiLvlLbl val="0"/>
      </c:catAx>
      <c:valAx>
        <c:axId val="166483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015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00AC-B795-482E-9ABC-9E6979CBC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AE62-48C1-4ED0-850D-13DC9F3C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E5C0-8DD2-4861-8730-76406FB34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4493-7F8E-4CB1-9955-EE2C422FD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D103-95B3-477B-B26A-90F9B6C6A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6169-06F0-4641-87F6-BED7B5DE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A1CE-41CC-470A-83C3-8308E8A1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B34E-D418-4D5D-8D3D-62E6E12B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EB6D-B292-4226-A293-2089E54F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0424-4C0E-4296-904E-329117CA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9E07-8375-43BE-9D7D-9AE0AF11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2506-7C4F-49BA-B0B5-945F0B09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24D5D-7533-4A9A-8EF4-77237EE1FE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