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18733"/>
        <c:axId val="11318814"/>
      </c:barChart>
      <c:catAx>
        <c:axId val="15918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18814"/>
        <c:crosses val="autoZero"/>
        <c:auto val="1"/>
        <c:lblAlgn val="ctr"/>
        <c:lblOffset val="100"/>
        <c:noMultiLvlLbl val="0"/>
      </c:catAx>
      <c:valAx>
        <c:axId val="11318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18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E53-17E2-47E1-898B-147EC9A4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ECA-F304-46DE-83E6-51944C96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65F-B32A-4E42-AE07-4EB0D25E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2A3-C729-4E56-8118-83B230B8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388-2549-421E-8F97-11AFEBD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645-1114-4CF5-A9A2-B0940AE6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74C-0691-4B73-8E35-7997CBF7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964-0317-4E0B-B280-2ED92E1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E94-D7B4-4CFD-91E7-DDC9687C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4B2-0A82-4894-BDCC-1929C02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9EB-E4FD-4C65-A349-782F07EB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347-CB39-4FF3-81C3-19E9E84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3A60-0197-4201-8EE9-ACAA5A6C0B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