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16081"/>
        <c:axId val="21008955"/>
      </c:barChart>
      <c:catAx>
        <c:axId val="93916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08955"/>
        <c:crosses val="autoZero"/>
        <c:auto val="1"/>
        <c:lblAlgn val="ctr"/>
        <c:lblOffset val="100"/>
        <c:noMultiLvlLbl val="0"/>
      </c:catAx>
      <c:valAx>
        <c:axId val="21008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16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EF1-A079-4CC5-A809-02F07DD6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C07-5A95-4A6D-B5D4-049E4D8A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868-2D54-43EF-B919-B01AA597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522-C531-44E6-96DF-4185AF7F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709-3D9F-4D1D-AFFB-F3BFEED0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97C-D3D0-4C91-AA7D-3C9074F6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F12-2729-42BF-8D0B-DE206414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724-3838-4205-9204-4298C670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F6A-85D5-4517-98BE-7DCC2E1B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6E9-6FA3-44B0-8553-15ECAFC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E6A-D070-4773-9673-7BD5363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2C6-B2F5-4704-AF71-F4D34B0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D56AA-78CA-45D8-A2C2-14AC2459FF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